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68D2-BFC2-4746-A58A-0A9DB0C1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C70A-F79C-4804-859F-D2F5C8C9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49FB-741E-47E9-A05F-E43232C65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48C-13F7-451E-BB50-4FA14726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62A-2CB4-4E9B-8FC1-1A37204C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701-2364-4DAB-B6A0-EBAAB06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CD3-674C-49E5-87FA-BB67A9BF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CC1-5011-4639-A6E9-4EC57C6C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0DD1-0179-4084-A2E6-749E996E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7F87-71C2-4162-A2F9-68F60EBC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386E-A2F6-498B-AE87-F2E681F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5D04-FBC4-44B1-9238-1C9EDF8F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EDB6-2F26-4409-9204-3B6A5B88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DE9E-AF2E-4FE3-99F6-264EBCD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9F31-3CEF-4B4E-A4E0-33B67DF0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DF5-6C55-4C74-8A08-3B3C788D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D318-C36C-4F85-B066-3D8FAC4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1D08-5074-4D16-91A0-C81ABF9C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7092-C786-4356-BBB9-7889F97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6529-6571-41FD-A7FA-490DAAFF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4AEF-B708-4DB3-88A7-E5DABC44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EAA-4B66-4E59-9858-2EE1C8B5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BFB-9CFA-4D0C-A9A4-E43EFAB3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7AE-B2BF-4ECC-BA38-8E8CC4CF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77A-81FC-4003-8980-CD31DF07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21C-D8DE-4894-AE2F-DF1566C1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B19-3525-40B1-AF88-EBAF864B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5B6-258D-4CCD-9372-3692ABE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32D0-3EB0-48FD-B6E0-3C4E21B54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3A4E-B928-4D82-8F67-25A7D037E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6745" dir="2116872" blurRad="0" rotWithShape="0">
              <a:srgbClr val="ffb80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dentifying Vari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pendent or Depend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ypes of Vari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2 main types of variable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he variable that is changed by the scientist; the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 control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The variable that might change because of what the scientist changes – what is being measur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hypothesis can TELL you what your variables ar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x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f I drink Mountain Dew before bed, then I will not sleep very muc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V: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Drinking Mountain Dew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V: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the amount of slee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2093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stants and Contr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st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stan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mething that scientist makes sure is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roughout the experi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. Watering the plants the same amount of water or making sure you are testing the same person every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tro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ntro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part of the experiment that the scientist doesn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change or add the variable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. The plant with the sunlight (It’s normal condition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sults of the experiment; is your hypothesis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 or wrong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supporting data from the experi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2:29:05Z</dcterms:created>
  <dc:creator>K. Ubbing</dc:creator>
  <dc:description/>
  <dc:language>en-US</dc:language>
  <cp:lastModifiedBy>Denice Fogel User</cp:lastModifiedBy>
  <dcterms:modified xsi:type="dcterms:W3CDTF">2013-01-16T02:02:45Z</dcterms:modified>
  <cp:revision>7</cp:revision>
  <dc:subject/>
  <dc:title>Identifying Variables</dc:title>
</cp:coreProperties>
</file>